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080-EA3F-4C7F-A44C-C6A222ED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871-8DF5-4D7F-BE91-CAFD6CD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5D05D-64A5-4835-988E-1A453483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9571F-020E-49F4-9B35-36DD316C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5F107-A735-4065-94C6-A62393A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8B894-67C9-42CB-B142-D35370F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DA27C-24A7-4C4D-844C-A7475A5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91072-9E77-4A3F-BEF2-C847B64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7268B-68B6-4B46-87DA-919AEC59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66643-AB87-4B73-9F33-E32CCEC9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2A51F-E85B-4CA0-A996-AAE9850B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9B48C-AC99-46A3-A22B-FE117120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0FF-5414-473B-8B06-44041342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6B5C6-C97C-4322-8973-63396747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D30F8-2530-48D0-A777-A193859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CBBFB-90FE-4D7C-ADFC-99683B2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9AB23-0F22-4E72-B7C3-41CAEE64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4E872-F7A9-41C4-A5AD-75F4811D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04447-F9A1-4955-9001-9CA811F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A28E8-C3EB-4B76-9E17-15BD2BF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06FE5-C70D-41C8-9588-93635D6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6350D-8F39-4195-B047-6576C89C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7567B-4BE5-4394-BB12-51FC4199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7E8-CB01-4EC5-B1CE-4539250A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833CE-0DC5-4730-BFEB-490B8ED6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70952-0230-4018-B659-E6E60DF5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081C5-B5E5-4796-8AC9-2E5276B6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4AFB6-C089-4CAC-94E7-CD7BF340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37DA1-DEA9-40A0-A528-CE8F2792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03349-5255-46A3-827D-6E905302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D098F-C9DE-4491-8848-83EA4433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FC8E6-7FC9-4F9A-956F-A6DEB19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99BD7-74A6-4CC7-885E-F4558F44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5DDE7-6D34-4FCF-A92C-41B481C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07DB-CEBC-402A-9AA2-7644C097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A16D1-0B83-438E-9136-2E25FB20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B4D9B-13C4-4E12-83E3-F2CE8BF1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B748F-ACE9-4E90-B58A-05CD833D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19743-65F8-4589-B8B5-F0390717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81A0B-2B71-441C-B565-36A31D94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8B4E8-36FD-4180-AD46-A0E3E5D6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EC910-44A1-4855-9211-333B39C4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33BED-EBFF-4B90-9F92-503715EB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EEA29-8652-4A86-8092-87E4FB2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C665E-4A5B-4F7B-A1F6-DE66E00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6695-78C9-4607-A68A-5C717D98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6A292-136C-40E3-951A-B271992A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85C07-1905-4DCE-88F0-5D05928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777A5-ADEE-4BE7-B276-6949B18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B06A5-F544-4D45-84FA-11208996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41E4A-222F-4114-ABB9-14D31F7B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2F324-113A-430B-B9C4-8C9B0E51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FF872-9685-4EB6-A2C2-4D7DD261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9DB31-9253-4255-BE09-03A48B87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D8563-C78D-4E4C-9E8D-EA88B3E6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8373C-0B1D-4B46-ACBF-D23786F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87E2-50D4-4833-A452-797058B2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B58EE-713B-4ACE-BE85-1C8664A0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61AD9-724F-4A11-A990-DE4BF35D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B9569-D4A2-4CF0-BF70-082BE3BC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23644-C8FA-4A03-97BA-E00F1276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F44D1-DDF0-4465-974B-16220ED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6926A-9952-48D6-9DFF-B294351E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AE3B5-61D2-4451-81BB-F51DD4CE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24DF3-C1B5-4E84-8FCF-D291C1A0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ED3AD-6882-4E44-B56C-C00A4704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062A8-2C50-4178-8D30-C4BC0872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A9DF-571E-437A-A9D8-50A9DAC8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1184D-76EF-47DD-8BCA-27D828B2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9FE7B-4BD3-414C-9E2E-7E52BB2D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BB971-DA8F-4828-BFA6-6C7BB6AC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6C6E2-2E03-41A1-A280-166A88E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E2492-F209-4419-B9BA-F2A4D0E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B2CE1-5B34-45F4-B178-0EDE322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3298F-5C71-4104-882F-5EFB72D7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E260F-8A84-4F87-B5A4-FF29146E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5B892-E5BD-40D6-870B-39A66B37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724B0-7614-4F15-ADC4-5E725D4B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5A26-AB28-4AF7-BEEB-A5D780FE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3AD8E-7BD7-486C-981A-6E75AA4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B8CBF-9AF7-475D-A642-2CD01AD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87F02-57A9-4D72-B6BF-88E62A30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67BCD-DB23-4D9A-9AE2-0F9DED62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51E6D-3956-414B-BA65-92C2A509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5AD32-E615-4C7C-BBFC-633C5B58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9E15B-68F5-46DB-8308-0C1E71E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93BD2-9F5A-4D9B-A7C1-EFF51418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9DEB1-AE43-4116-89D1-183EA257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D3CD9-E91E-47CD-AC1A-1460AA42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C62-8984-4126-B231-3AC555C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23024-F0E2-4868-8EF7-143327AE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EEB3B-134E-43F1-905B-DC947DD2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7B524-812A-4D95-B75B-62B3D686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941C4-64E9-4E54-93A3-034C973A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B4E66-AE80-4884-BB4C-3298FBE6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120DF-2F31-460B-8AD5-61F950A0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DABC7-AB2E-4DBC-A020-D81862D0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636EF-41A5-4A6C-87BE-7BA11FB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FA843-6426-40C6-AB6A-D2F353B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E2A1E-8A52-40C6-86A1-F3895C3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7280-BD8F-427E-8F56-9B2C176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26DC0-827F-45DA-8164-B2792828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F720C-666F-4083-A87F-096EA8A2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3B17A-7326-4E7F-A806-D58E637E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FAE51-048D-4E47-8C77-0313392F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79F58-51EF-4451-BCEB-34DC297B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44030-4C76-40F2-8DB1-3694F3B6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CFB07-3782-4BFE-9C37-0A9AA899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2609D-536A-4525-97BC-09DB7556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A17C2-9E01-4AE1-95BE-E352A61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C6C46-8A37-4276-93C1-03F5D1E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608-2738-4DE5-B6D8-B7A068E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400A-8A3E-44CE-99C5-0791C8A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C6D1C-EC97-4A66-8F1E-DD3BDD0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EDCE2-FC69-4697-87C6-199FC09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2D8F9-8D7C-445B-8CBC-51CDCF3F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1033D-AE2D-4D40-9ADC-4AD64A07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F2E7B-905C-4AF1-8E5C-0166979C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C09B9-B7B9-40A9-988C-CE53326C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C1A1F-1250-4CE3-8F69-DE7C5DC5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70D87-FD78-4DFA-B481-13FCFD9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F29036-39D0-4ABC-98AE-ADA2E565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1D066-0460-4DD1-8A08-81E175CD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204B-831F-471B-98AC-1FC273C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44D4C-35F2-42C8-BF8E-E8D2BF7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1EB2E-DCCD-414F-821A-C73FB0B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73ABF-8B7C-472A-86DA-523E55D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3468D-EDEB-4397-BE48-961555F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048E1-7418-4EDF-9273-9823423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47525-E9A5-4881-B2F3-D57786F8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ED468-18B0-4BE4-991C-3938450F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C7C09-A32F-4826-BDB0-6EFD0851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ED389-E670-472D-BE03-D7945AF8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303E4-F677-4692-958E-41CB2934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B2C2-799A-4CC4-9BC9-E413AEE2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463FB4-82E1-4309-99E5-E927B0A7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3D718-3CF5-49DE-A67A-DDC8688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096AC-5327-4FE1-959A-97BC7510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C679A-5E04-4F00-ACF6-F2306D4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8F417-C037-4A0E-A16F-3F191BF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B2FC0-7545-461B-9692-18B63F1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F7805-6775-401B-8382-3C8EC52F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2B3E7-2CE8-4CE6-8C10-1D19B352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A198C-FD36-4962-A1C3-679CEFCB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55209-AF07-43A5-A035-B0C38ECA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FE35-ACDA-414B-B2A5-3A3043CE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E713E-CA6F-4172-91A4-8FC3753E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1171A-DFA0-4A9E-B61D-528BA36C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EFB36-4859-48AA-A9C4-AACDBBF2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1BE62-C0DC-4C8D-943F-2C2CEDF6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A5AEA-7B6C-4184-9B6A-3175DD1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3DB7E-A639-4900-8639-A908BAF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A3899-EE31-4ECC-941E-A1552F7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5E18E-4A15-45C1-BC93-6616E39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A4495-AE91-47E9-B2EC-296EE83A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CE018-038F-4BE9-9534-5B7ED057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480E-9F15-4A5E-88E9-8D3409D1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E9EDC-4EF0-4A1C-A856-B23D2FDA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C856E-98F5-4629-AB73-BFC84FDA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F23328-42BC-4314-9EA8-37F8FE2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1D5A6-A3D8-486D-A9DD-D132110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D6998-A57F-4DF4-8B72-81F6ADE1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09105-A2C0-41B2-95E1-EC55D288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78835-EF01-4781-B219-39C3686E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871B7-5235-4C56-BB19-6C54CA7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0D2E24-5FA6-4CD4-A2AE-8E6B536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5EA78-F4C5-44E7-997A-A92FCD93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F214-F8D5-4829-863B-E5ACFA96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A465FE-851E-4E3A-A549-087C7F35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A7732-10DE-412A-83BC-DFF99616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2B8C92-5CFB-4846-861D-CE42A7A7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5D29-979F-4987-9250-CF363C3A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3BE3-3CAB-47DF-9874-E629804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7E4F-B1A0-4F85-8CCF-CB417FC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72F6-929F-4E26-BEAD-61571000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E5C-9BAB-4E3E-9BF2-8C2AE292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B3D0-47A4-46DE-8A23-A7A2138C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C386-62C9-4F26-AABD-80030FD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AAC7-8605-495B-AB39-F017124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D275-47F6-4A14-8971-C6DED53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B496-8647-40DE-8F0C-78E59320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1CA70-48FE-4B04-8709-62014ED9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8763-1955-4026-9282-CF998916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3F4C-649D-47D3-9226-78A3B90A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B7F9-7A46-4540-89D2-3351AC3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3E6E-D3C4-459E-852B-214D393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9BE-249C-4D80-8829-EB72F4E9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B524-2F6E-4296-88A4-402A09ED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A64A-BF1E-40A9-B3D0-4E997FD7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60C1-B739-4359-AEF7-71985D7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5B3D-BB8A-4912-B3A0-86911A5F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3556B-88DC-4744-9CA9-40FC0CA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418D-C64B-4D47-8B6F-4D42071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355A-68E3-4F9D-B4AA-30993945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AB3D-B7FE-4031-B180-5BBCD5A1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6252-84C8-4852-8904-31B69FD9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630C-7A94-4C29-84D3-43D89D8A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D76-6789-4176-9D13-868A8B8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51DE4-0008-4701-80E4-EAE8C7A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9339-1E32-4FEF-AB60-7D4E5AD2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3DDD-94DC-4B2D-A337-4971FBC7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CF8C2-054D-49C2-BAD8-16C70080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6E5D-27A7-4D07-94EC-A9E0C696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4D36-76CF-4C44-9281-9361D70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53662-C22C-4ECF-90C0-C4BBB07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C980-A58E-4B84-8D8C-FF1E8E1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8EE6-8CF5-4797-86B0-C5341033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3284-8C58-4A44-849B-170DF144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BD4-FF8E-40DA-A30D-A462A2FE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6A7E2-B97E-4F17-93EB-A1141F1C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A2E26-A3AF-4B59-9569-FECC5E56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FEBC-1CF3-4FE9-8BE5-647B2EB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98C2F-7D47-49FE-AF36-799602BD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3FDC-04CB-4D26-8B8E-D0A0CF01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60EBD-59EF-4E14-8650-F99EDB4E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C0A71-4CE1-4361-82C9-FE4750FD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7BD4-A73F-4541-BC77-1F99B94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ABD9-343E-4451-975D-665CFA2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ED611-2F42-40A2-8EEC-18B408B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9DE-439A-45EE-A7F3-A8DE503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CC0C-A14D-434B-B312-BDE30F3F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3033-189B-42FE-9603-EADCE713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B7262-48A3-4208-A15A-02C595CC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7E6A-9B48-4AF6-AC83-C0F70A57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19A2A-CB6B-449D-9F17-93D833CB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1218-E435-42FD-82AC-21E65165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55C7-9900-4288-AA6D-9E715725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1A514-7772-4673-8552-347431F7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2039F-4A53-485F-B5D7-0782C4E1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C5C8-53AB-4E50-86A4-E75FC878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310-0065-4C71-85F9-8D783B1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C36FF-F8EA-4287-9ADF-27B1FC1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FD406-FD6A-4708-BEF9-83F5366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225A5-F704-41DD-B8F6-7DBC9102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F59F-E51D-49C4-8EBE-44DB4BED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ACEC9-DE66-4098-952F-DF99AF2B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A95BA-9CD7-4CB2-ADE9-D1933B6C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D4F9-751E-41DF-B46E-281AF768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66F5-DBC9-4D6F-809C-45DC50F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1809B-5CC1-43C3-8ACB-93873DF8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2B818-D465-4EDD-98C8-A3E19910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EF5-363C-4544-90CF-C675FE1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D954B-7FC5-4F8F-B807-37CBE440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CAA48-05F2-4FCE-81C6-534A3CF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82AF-5F25-4B07-ADC7-65C0223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BC9F-ED9E-428B-B1FC-8EF81B7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3368A-9DA7-43B5-99AE-7F3154D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9687-CC80-45FF-A848-8FD7D310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86F4-8533-4F98-BD9C-02C242C7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F85B-05E0-4953-8528-20CD95C0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463BF-B128-4948-921C-FA22E3F6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26360-B7EB-4E5C-9E37-7D9A0EC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214A-A4AF-41C6-95E5-291675A21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74C-C789-4259-895B-AAA0B7DBED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6974-2AE2-412E-AA1E-F48988228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5522-52DB-4E6C-BE84-5FBF43B5FF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2DA0-7624-4CCF-9B3D-BB938F2EE6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CD2-0A41-4281-AF85-99293C85E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BA0-2E29-4FBF-A650-C0F53922ED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BA42-0E8E-4225-8FA3-92D3D3DDD1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69C0-2C90-48DE-BA66-2809ED14C7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BA9-E922-4C0D-9752-A6F09EAF5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D55C-333A-4468-880C-FDEA2E9D0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F604-CA0D-4EC6-A7B0-22E5369BA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8473-05C4-43BB-BF67-11BE492570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9348-DF70-45B3-B147-3CA98AF3D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6A6-7EDB-4652-B005-5D273DD6F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E1E0-3A3C-4F37-BD8E-42E519A5C4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82AA-4A1A-4BF1-9D5B-51DACC11E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B900-06AF-4C77-BD0A-7CF861F6F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B5D8-B007-423B-AA6E-A4A57ED7C0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8C8E-8098-4D7B-9226-48805F89E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761-04FE-4EE9-B009-D5748F9CB3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E70B-C306-4B5E-ABBB-4B72F1E72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328C-7944-4F4F-B318-F951652A5A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236-C2EE-4BC3-86CB-FB8A3EC26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BD9-4FE6-4AA9-8787-27732B6CD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E44E-6F9C-4CAC-83B0-D61156219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3B2-98F6-4E3F-A16F-807A1E280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3C6C-A92F-4839-9E14-AB0FC9BB1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8929-39A3-49F3-A539-5E478B972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C449-6DA5-4058-9824-99D91DFBB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74C1-40B8-470C-822C-35E1BD89B5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CA64-8756-4E9E-8B9E-5D0B73666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4A0-EA11-4DE0-B392-C9666AE35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940C-2FF6-4137-9B00-B8E93BD63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CE4-F83C-4C3D-B18C-3FA72CABC3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0252-8F6B-4492-A8E3-21765FBB95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CDE7-45A3-4C27-874E-1CB3BEF32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A5D1-441A-49C5-B561-167F732B1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177A-05F0-4743-AC6B-E6686E27F7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253-4B17-43C4-9F55-FB0E7CCAD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57200" y="3005280"/>
            <a:ext cx="8229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Picture 2" descr=""/>
          <p:cNvPicPr/>
          <p:nvPr/>
        </p:nvPicPr>
        <p:blipFill>
          <a:blip r:embed="rId1"/>
          <a:stretch/>
        </p:blipFill>
        <p:spPr>
          <a:xfrm>
            <a:off x="905040" y="907920"/>
            <a:ext cx="7333920" cy="581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"/>
          <p:cNvPicPr/>
          <p:nvPr/>
        </p:nvPicPr>
        <p:blipFill>
          <a:blip r:embed="rId2"/>
          <a:stretch/>
        </p:blipFill>
        <p:spPr>
          <a:xfrm>
            <a:off x="5357880" y="89208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"/>
          <p:cNvPicPr/>
          <p:nvPr/>
        </p:nvPicPr>
        <p:blipFill>
          <a:blip r:embed="rId3"/>
          <a:stretch/>
        </p:blipFill>
        <p:spPr>
          <a:xfrm>
            <a:off x="5857920" y="175896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" descr=""/>
          <p:cNvPicPr/>
          <p:nvPr/>
        </p:nvPicPr>
        <p:blipFill>
          <a:blip r:embed="rId4"/>
          <a:stretch/>
        </p:blipFill>
        <p:spPr>
          <a:xfrm>
            <a:off x="6357960" y="261612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3" descr=""/>
          <p:cNvPicPr/>
          <p:nvPr/>
        </p:nvPicPr>
        <p:blipFill>
          <a:blip r:embed="rId5"/>
          <a:stretch/>
        </p:blipFill>
        <p:spPr>
          <a:xfrm>
            <a:off x="5000760" y="349092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3" descr=""/>
          <p:cNvPicPr/>
          <p:nvPr/>
        </p:nvPicPr>
        <p:blipFill>
          <a:blip r:embed="rId6"/>
          <a:stretch/>
        </p:blipFill>
        <p:spPr>
          <a:xfrm>
            <a:off x="4929120" y="534672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3" descr=""/>
          <p:cNvPicPr/>
          <p:nvPr/>
        </p:nvPicPr>
        <p:blipFill>
          <a:blip r:embed="rId7"/>
          <a:stretch/>
        </p:blipFill>
        <p:spPr>
          <a:xfrm>
            <a:off x="4857840" y="6205680"/>
            <a:ext cx="2286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801120" cy="50292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2"/>
          <a:stretch/>
        </p:blipFill>
        <p:spPr>
          <a:xfrm>
            <a:off x="3929040" y="123660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" descr=""/>
          <p:cNvPicPr/>
          <p:nvPr/>
        </p:nvPicPr>
        <p:blipFill>
          <a:blip r:embed="rId3"/>
          <a:stretch/>
        </p:blipFill>
        <p:spPr>
          <a:xfrm>
            <a:off x="4214880" y="211140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" descr=""/>
          <p:cNvPicPr/>
          <p:nvPr/>
        </p:nvPicPr>
        <p:blipFill>
          <a:blip r:embed="rId4"/>
          <a:stretch/>
        </p:blipFill>
        <p:spPr>
          <a:xfrm>
            <a:off x="3286080" y="2978280"/>
            <a:ext cx="3643200" cy="4381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" descr=""/>
          <p:cNvPicPr/>
          <p:nvPr/>
        </p:nvPicPr>
        <p:blipFill>
          <a:blip r:embed="rId5"/>
          <a:stretch/>
        </p:blipFill>
        <p:spPr>
          <a:xfrm>
            <a:off x="3071880" y="3848040"/>
            <a:ext cx="3643200" cy="4381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" descr=""/>
          <p:cNvPicPr/>
          <p:nvPr/>
        </p:nvPicPr>
        <p:blipFill>
          <a:blip r:embed="rId6"/>
          <a:stretch/>
        </p:blipFill>
        <p:spPr>
          <a:xfrm>
            <a:off x="3989520" y="4705200"/>
            <a:ext cx="3643200" cy="4384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" descr=""/>
          <p:cNvPicPr/>
          <p:nvPr/>
        </p:nvPicPr>
        <p:blipFill>
          <a:blip r:embed="rId7"/>
          <a:stretch/>
        </p:blipFill>
        <p:spPr>
          <a:xfrm>
            <a:off x="3286080" y="5562720"/>
            <a:ext cx="3643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552600" y="1419120"/>
            <a:ext cx="8038800" cy="40197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"/>
          <p:cNvPicPr/>
          <p:nvPr/>
        </p:nvPicPr>
        <p:blipFill>
          <a:blip r:embed="rId2"/>
          <a:stretch/>
        </p:blipFill>
        <p:spPr>
          <a:xfrm>
            <a:off x="5929200" y="2379600"/>
            <a:ext cx="1725840" cy="4381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"/>
          <p:cNvPicPr/>
          <p:nvPr/>
        </p:nvPicPr>
        <p:blipFill>
          <a:blip r:embed="rId3"/>
          <a:stretch/>
        </p:blipFill>
        <p:spPr>
          <a:xfrm>
            <a:off x="5429160" y="4122720"/>
            <a:ext cx="1725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9" name="Picture 2" descr=""/>
          <p:cNvPicPr/>
          <p:nvPr/>
        </p:nvPicPr>
        <p:blipFill>
          <a:blip r:embed="rId1"/>
          <a:stretch/>
        </p:blipFill>
        <p:spPr>
          <a:xfrm>
            <a:off x="809640" y="88272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3" descr=""/>
          <p:cNvPicPr/>
          <p:nvPr/>
        </p:nvPicPr>
        <p:blipFill>
          <a:blip r:embed="rId2"/>
          <a:stretch/>
        </p:blipFill>
        <p:spPr>
          <a:xfrm>
            <a:off x="3143160" y="857160"/>
            <a:ext cx="1725840" cy="438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3" descr=""/>
          <p:cNvPicPr/>
          <p:nvPr/>
        </p:nvPicPr>
        <p:blipFill>
          <a:blip r:embed="rId3"/>
          <a:stretch/>
        </p:blipFill>
        <p:spPr>
          <a:xfrm>
            <a:off x="5072040" y="879480"/>
            <a:ext cx="1725480" cy="4381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3" descr=""/>
          <p:cNvPicPr/>
          <p:nvPr/>
        </p:nvPicPr>
        <p:blipFill>
          <a:blip r:embed="rId4"/>
          <a:stretch/>
        </p:blipFill>
        <p:spPr>
          <a:xfrm>
            <a:off x="4071960" y="2622600"/>
            <a:ext cx="1725480" cy="4381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3" descr=""/>
          <p:cNvPicPr/>
          <p:nvPr/>
        </p:nvPicPr>
        <p:blipFill>
          <a:blip r:embed="rId5"/>
          <a:stretch/>
        </p:blipFill>
        <p:spPr>
          <a:xfrm>
            <a:off x="3929040" y="3490920"/>
            <a:ext cx="1725480" cy="4381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3" descr=""/>
          <p:cNvPicPr/>
          <p:nvPr/>
        </p:nvPicPr>
        <p:blipFill>
          <a:blip r:embed="rId6"/>
          <a:stretch/>
        </p:blipFill>
        <p:spPr>
          <a:xfrm>
            <a:off x="6072120" y="3473280"/>
            <a:ext cx="1725840" cy="4384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3" descr=""/>
          <p:cNvPicPr/>
          <p:nvPr/>
        </p:nvPicPr>
        <p:blipFill>
          <a:blip r:embed="rId7"/>
          <a:stretch/>
        </p:blipFill>
        <p:spPr>
          <a:xfrm>
            <a:off x="5500800" y="5214960"/>
            <a:ext cx="1725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8" name="Picture 3" descr=""/>
          <p:cNvPicPr/>
          <p:nvPr/>
        </p:nvPicPr>
        <p:blipFill>
          <a:blip r:embed="rId1"/>
          <a:stretch/>
        </p:blipFill>
        <p:spPr>
          <a:xfrm>
            <a:off x="461880" y="1403280"/>
            <a:ext cx="8220240" cy="42577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3" descr=""/>
          <p:cNvPicPr/>
          <p:nvPr/>
        </p:nvPicPr>
        <p:blipFill>
          <a:blip r:embed="rId2"/>
          <a:stretch/>
        </p:blipFill>
        <p:spPr>
          <a:xfrm>
            <a:off x="3143160" y="4143240"/>
            <a:ext cx="1214640" cy="438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3" descr=""/>
          <p:cNvPicPr/>
          <p:nvPr/>
        </p:nvPicPr>
        <p:blipFill>
          <a:blip r:embed="rId3"/>
          <a:stretch/>
        </p:blipFill>
        <p:spPr>
          <a:xfrm>
            <a:off x="4857840" y="4187880"/>
            <a:ext cx="1214280" cy="438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3" descr=""/>
          <p:cNvPicPr/>
          <p:nvPr/>
        </p:nvPicPr>
        <p:blipFill>
          <a:blip r:embed="rId4"/>
          <a:stretch/>
        </p:blipFill>
        <p:spPr>
          <a:xfrm>
            <a:off x="6858000" y="4192560"/>
            <a:ext cx="1214280" cy="438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3" descr=""/>
          <p:cNvPicPr/>
          <p:nvPr/>
        </p:nvPicPr>
        <p:blipFill>
          <a:blip r:embed="rId5"/>
          <a:stretch/>
        </p:blipFill>
        <p:spPr>
          <a:xfrm>
            <a:off x="2486160" y="5040360"/>
            <a:ext cx="1214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876240" y="1428840"/>
            <a:ext cx="7391520" cy="44481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2"/>
          <a:stretch/>
        </p:blipFill>
        <p:spPr>
          <a:xfrm>
            <a:off x="4357800" y="2357280"/>
            <a:ext cx="1214280" cy="4384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3" descr=""/>
          <p:cNvPicPr/>
          <p:nvPr/>
        </p:nvPicPr>
        <p:blipFill>
          <a:blip r:embed="rId3"/>
          <a:stretch/>
        </p:blipFill>
        <p:spPr>
          <a:xfrm>
            <a:off x="2214720" y="3214800"/>
            <a:ext cx="1214280" cy="438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3" descr=""/>
          <p:cNvPicPr/>
          <p:nvPr/>
        </p:nvPicPr>
        <p:blipFill>
          <a:blip r:embed="rId4"/>
          <a:stretch/>
        </p:blipFill>
        <p:spPr>
          <a:xfrm>
            <a:off x="2357280" y="5165640"/>
            <a:ext cx="2357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31" name="Picture 2" descr=""/>
          <p:cNvPicPr/>
          <p:nvPr/>
        </p:nvPicPr>
        <p:blipFill>
          <a:blip r:embed="rId1"/>
          <a:stretch/>
        </p:blipFill>
        <p:spPr>
          <a:xfrm>
            <a:off x="714240" y="1422360"/>
            <a:ext cx="7715520" cy="42386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2"/>
          <a:stretch/>
        </p:blipFill>
        <p:spPr>
          <a:xfrm>
            <a:off x="3654360" y="1703520"/>
            <a:ext cx="1214640" cy="4381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"/>
          <p:cNvPicPr/>
          <p:nvPr/>
        </p:nvPicPr>
        <p:blipFill>
          <a:blip r:embed="rId3"/>
          <a:stretch/>
        </p:blipFill>
        <p:spPr>
          <a:xfrm>
            <a:off x="3857760" y="3881520"/>
            <a:ext cx="1214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552600" y="855720"/>
            <a:ext cx="8038800" cy="5886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857240" y="27147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85960" y="35719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785960" y="44910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785960" y="528624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1785960" y="620568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76360" y="865080"/>
            <a:ext cx="7991280" cy="5877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1928880" y="9288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1857240" y="278604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1857240" y="363384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1785960" y="44910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6"/>
          <a:stretch/>
        </p:blipFill>
        <p:spPr>
          <a:xfrm>
            <a:off x="1785960" y="53481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7"/>
          <a:stretch/>
        </p:blipFill>
        <p:spPr>
          <a:xfrm>
            <a:off x="1857240" y="614376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3" descr=""/>
          <p:cNvPicPr/>
          <p:nvPr/>
        </p:nvPicPr>
        <p:blipFill>
          <a:blip r:embed="rId1"/>
          <a:stretch/>
        </p:blipFill>
        <p:spPr>
          <a:xfrm>
            <a:off x="512640" y="816120"/>
            <a:ext cx="8020080" cy="5781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2"/>
          <a:stretch/>
        </p:blipFill>
        <p:spPr>
          <a:xfrm>
            <a:off x="1714680" y="17859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643040" y="3500280"/>
            <a:ext cx="500040" cy="438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4"/>
          <a:stretch/>
        </p:blipFill>
        <p:spPr>
          <a:xfrm>
            <a:off x="1571760" y="607212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1258920" y="754200"/>
            <a:ext cx="6603840" cy="37447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"/>
          <p:cNvPicPr/>
          <p:nvPr/>
        </p:nvPicPr>
        <p:blipFill>
          <a:blip r:embed="rId2"/>
          <a:stretch/>
        </p:blipFill>
        <p:spPr>
          <a:xfrm>
            <a:off x="1344600" y="4714920"/>
            <a:ext cx="5737320" cy="21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1714680" y="24289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4"/>
          <a:stretch/>
        </p:blipFill>
        <p:spPr>
          <a:xfrm>
            <a:off x="1714680" y="478620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533520" y="836640"/>
            <a:ext cx="8076960" cy="5943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571760" y="20001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643040" y="36432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1714680" y="54291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1714680" y="628812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776160" y="1090440"/>
            <a:ext cx="7591680" cy="4677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1928880" y="12859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3"/>
          <a:stretch/>
        </p:blipFill>
        <p:spPr>
          <a:xfrm>
            <a:off x="2000160" y="4929120"/>
            <a:ext cx="2419560" cy="8096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4"/>
          <a:stretch/>
        </p:blipFill>
        <p:spPr>
          <a:xfrm>
            <a:off x="5500800" y="4929120"/>
            <a:ext cx="24192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895320" y="949320"/>
            <a:ext cx="7353360" cy="5648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1500120" y="2786040"/>
            <a:ext cx="2419560" cy="8096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5000760" y="2786040"/>
            <a:ext cx="2419200" cy="8096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1500120" y="5786280"/>
            <a:ext cx="2419560" cy="8096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5"/>
          <a:stretch/>
        </p:blipFill>
        <p:spPr>
          <a:xfrm>
            <a:off x="5000760" y="5786280"/>
            <a:ext cx="3286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9960" cy="24386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2"/>
          <a:stretch/>
        </p:blipFill>
        <p:spPr>
          <a:xfrm>
            <a:off x="1630440" y="3584520"/>
            <a:ext cx="6267240" cy="31053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3"/>
          <a:stretch/>
        </p:blipFill>
        <p:spPr>
          <a:xfrm>
            <a:off x="4500720" y="180828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4"/>
          <a:stretch/>
        </p:blipFill>
        <p:spPr>
          <a:xfrm>
            <a:off x="5594400" y="269388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5"/>
          <a:stretch/>
        </p:blipFill>
        <p:spPr>
          <a:xfrm>
            <a:off x="5500800" y="358452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6"/>
          <a:stretch/>
        </p:blipFill>
        <p:spPr>
          <a:xfrm>
            <a:off x="5500800" y="445284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7"/>
          <a:stretch/>
        </p:blipFill>
        <p:spPr>
          <a:xfrm>
            <a:off x="5072040" y="532116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8"/>
          <a:stretch/>
        </p:blipFill>
        <p:spPr>
          <a:xfrm>
            <a:off x="4417920" y="6194520"/>
            <a:ext cx="2286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58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